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13D-CF88-4C41-9A06-7A32903F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E43-A3EA-4DC0-89A6-D1104D78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AE69-F451-4552-A3AD-95A6E1D7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ADC-50B2-4D6D-AE2B-05B532E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4E1E6-AE25-4F00-9002-AD41F21C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92D13-5ECB-450D-9DC3-26FD176F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8249-7B7A-4D6B-963D-7D4EAC40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BE2B-8D02-46A4-860E-8AE91EA7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8475-27B8-47D7-A9C0-0366FD69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E92B0-0219-4417-8956-1276D65E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1AEFA-E5EB-4197-B910-8930B5CD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DBD-7E10-4BBF-9BD2-482975D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C645A-83DB-448F-B161-B983B11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30F7-6685-4579-B143-7E234117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6A45C-68C8-4D63-9C80-022AA3CE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4E36-DBD3-4FBB-9ADF-6B850766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41FA-3273-44D8-A4D1-B0690352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551C-02FF-4C14-8317-312FEAF0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F3F-B324-45EA-8AE0-A23A7756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E37-6F91-409B-9D9C-4B75CD38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E5D-1469-43A9-AFDD-A4B03BB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924-0E70-4A07-AD47-929D94E0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CA3-0325-4958-B728-1800357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08B-2D4B-4E84-A708-F439EF52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2B07-EB6E-4CA0-8ECB-F5881CB35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7348-514E-412D-B97B-0DC5149F29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Dona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667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at’s why penguins are cool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081160" cy="3121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902040" cy="2600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52680" y="1371600"/>
            <a:ext cx="208116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nguins live in Antarcrtca and the south pol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1868400"/>
            <a:ext cx="594360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me penguins don’t  live in ice or s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057400" y="2666880"/>
            <a:ext cx="5638680" cy="343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796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swim  very fa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wim about 15 miles per hou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58676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turn with their feet and they walk ve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t. The smallest penguin is 15 inches  hig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penguins hop. One species is called donk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y swim on their stomach. Another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ey are yellow, black, and whi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808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7 species of penguin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638680" y="396252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don’t 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eat fish and squi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s are can be 3 f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1907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y live up to15-20 years. If an egg gets too cold the chick inside will die . Emperor penguins keep their eggs warm in  a special pouch above their fe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86200" y="3736800"/>
            <a:ext cx="251460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o get down hills, penguins slide on there stomach. They use their flippers to pull them selves.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62520" y="37339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nguins use their webbed feet to swim so fast under water. Penguins often jump out of the water to take a breath. Some times penguins swim along the water like ducks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685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8:26:49Z</dcterms:modified>
  <cp:revision>6</cp:revision>
  <dc:subject/>
  <dc:title>Animal Name</dc:title>
</cp:coreProperties>
</file>